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2BA1-9ADA-4E42-A8E8-755DDF44E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6932-B00E-4C13-9B84-E1355D58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80F3-15F4-49F6-9C13-5D4D4D2F3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14AB-2DB9-4F88-A12E-BFA683D60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B6B9-C2BE-478A-A099-C70B5279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92F1-9D24-4FB8-AEE1-A846B161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08E6-FACC-4654-AFD4-ADA243AF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2AFE-DCB7-4722-931D-C5E41081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B362-9CAA-40FE-9342-79DA4324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0CCE-0022-4FE0-9814-72D79964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238B-0AC9-4BCF-84E3-9C7C0369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767A-DC7C-4907-B0D6-2954EA6D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51E0-AA3F-4DF0-A31C-4639CFF4B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jesus%20healer%20teacher%20comforter" descr=""/>
          <p:cNvPicPr/>
          <p:nvPr/>
        </p:nvPicPr>
        <p:blipFill>
          <a:blip r:embed="rId1"/>
          <a:stretch/>
        </p:blipFill>
        <p:spPr>
          <a:xfrm>
            <a:off x="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72200" y="3049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82520"/>
            <a:ext cx="2895480" cy="9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نت عظيمٌ عظيمٌ عظيمٌ يا ال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عظيمٌ في محبت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عظيمٌ في أمانت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عظيمٌ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في تحرير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</a:rPr>
              <a:t>عظيم أيضا في شفائ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7T10:12:55Z</dcterms:created>
  <dc:creator>SUZANNE.MD</dc:creator>
  <dc:description/>
  <dc:language>en-US</dc:language>
  <cp:lastModifiedBy>USER</cp:lastModifiedBy>
  <dcterms:modified xsi:type="dcterms:W3CDTF">2003-02-17T14:28:32Z</dcterms:modified>
  <cp:revision>2</cp:revision>
  <dc:subject/>
  <dc:title>PowerPoint Presentation</dc:title>
</cp:coreProperties>
</file>